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A4062-34D6-441B-9864-5CCC3300B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AC8F8-58E7-4C43-811D-C43227ECC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4487B-0CA0-43A2-AA8E-6032AFE1D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1B689-1E4A-45BE-B1C7-D247BCCE6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42D7D-7FDD-4868-A315-C3496AAB1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9DE40-818D-47F6-A6A5-35EE14273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5D44F-0F0B-434E-971D-808DDAD8D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54787-2278-4090-A6F7-F2E2CD680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74259-6145-465B-A3D7-10428275E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B2C1C-B036-4608-9013-9C66E4A1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04ECE-AFC1-4469-AB9B-D76953BE9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644C4-C7BC-4A5B-A61D-0BCFC18DD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 RISING M&amp;E expert meeting - Addis Ababa</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FEAC-17B5-4426-9469-EE3C13B6D1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6719132809_d02a581715_b.jpg"/>
          <p:cNvPicPr/>
          <p:nvPr/>
        </p:nvPicPr>
        <p:blipFill>
          <a:blip r:embed="rId1"/>
          <a:stretch/>
        </p:blipFill>
        <p:spPr>
          <a:xfrm>
            <a:off x="3625920" y="304920"/>
            <a:ext cx="1904760" cy="2216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frica RISING: Sustainable Intensification of Cereal-Based Farming Systems in the Sudano-Sahelian Zone</a:t>
            </a:r>
            <a:endParaRPr b="0" lang="en-US" sz="3600" spc="-1" strike="noStrike">
              <a:solidFill>
                <a:srgbClr val="000000"/>
              </a:solidFill>
              <a:latin typeface="Arial"/>
            </a:endParaRPr>
          </a:p>
        </p:txBody>
      </p:sp>
      <p:sp>
        <p:nvSpPr>
          <p:cNvPr id="43"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2012 – </a:t>
            </a:r>
            <a:r>
              <a:rPr b="1" lang="en-US" sz="2800" spc="-1" strike="noStrike">
                <a:solidFill>
                  <a:srgbClr val="000000"/>
                </a:solidFill>
                <a:latin typeface="Calibri"/>
              </a:rPr>
              <a:t>Mal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us of research execution &amp; planning</a:t>
            </a:r>
            <a:endParaRPr b="0" lang="en-US" sz="2800" spc="-1" strike="noStrike">
              <a:solidFill>
                <a:srgbClr val="000000"/>
              </a:solidFill>
              <a:latin typeface="Arial"/>
            </a:endParaRPr>
          </a:p>
        </p:txBody>
      </p:sp>
      <p:sp>
        <p:nvSpPr>
          <p:cNvPr id="44"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C10E-0F67-4586-968A-D7BC60E68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5 Diversify seed enteprise options for of seed or tree nursery cooperatives  and their unions, and tree nurserie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89" name=""/>
          <p:cNvSpPr txBox="1"/>
          <p:nvPr/>
        </p:nvSpPr>
        <p:spPr>
          <a:xfrm>
            <a:off x="457200" y="1600200"/>
            <a:ext cx="4495680" cy="4525920"/>
          </a:xfrm>
          <a:prstGeom prst="rect">
            <a:avLst/>
          </a:prstGeom>
          <a:noFill/>
          <a:ln w="0">
            <a:noFill/>
          </a:ln>
        </p:spPr>
        <p:txBody>
          <a:bodyPr anchor="t">
            <a:normAutofit fontScale="94000"/>
          </a:bodyPr>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ety trials (Sorghum, Millet, Maize, Cowpea, Groundnut, Soyabean, Okra and Roselle, with and without agronomic options) implemented by partners in Koutiala (11 types, ~160 trials, 17 villages/ cooperatives) and Bougouni (~5 types, 9 villages)</a:t>
            </a:r>
            <a:endParaRPr b="0" lang="en-US" sz="2200" spc="-1" strike="noStrike">
              <a:solidFill>
                <a:srgbClr val="000000"/>
              </a:solidFill>
              <a:latin typeface="Arial"/>
            </a:endParaRPr>
          </a:p>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mini-packs of seeds of sorghum, pearl millet, cowpea and soyabean sold through partner networks (AMASSA, MOBIOM, AMEDD)</a:t>
            </a:r>
            <a:endParaRPr b="0" lang="en-US" sz="2200" spc="-1" strike="noStrike">
              <a:solidFill>
                <a:srgbClr val="000000"/>
              </a:solidFill>
              <a:latin typeface="Arial"/>
            </a:endParaRPr>
          </a:p>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ed production fields installed for certification by farmers in Koutiala (&gt;20) and Bougouni (?) for sorghum, pearl millet, maize, cowpea and soyabean</a:t>
            </a:r>
            <a:endParaRPr b="0" lang="en-US" sz="2200" spc="-1" strike="noStrike">
              <a:solidFill>
                <a:srgbClr val="000000"/>
              </a:solidFill>
              <a:latin typeface="Arial"/>
            </a:endParaRPr>
          </a:p>
        </p:txBody>
      </p:sp>
      <p:sp>
        <p:nvSpPr>
          <p:cNvPr id="90"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D869-F8C1-483E-AD0E-C0AF52434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92" name="Picture 5" descr="6719132809_d02a581715_b.jpg"/>
          <p:cNvPicPr/>
          <p:nvPr/>
        </p:nvPicPr>
        <p:blipFill>
          <a:blip r:embed="rId1"/>
          <a:stretch/>
        </p:blipFill>
        <p:spPr>
          <a:xfrm>
            <a:off x="8161200" y="76320"/>
            <a:ext cx="906480" cy="1055520"/>
          </a:xfrm>
          <a:prstGeom prst="rect">
            <a:avLst/>
          </a:prstGeom>
          <a:ln w="0">
            <a:noFill/>
          </a:ln>
        </p:spPr>
      </p:pic>
      <p:pic>
        <p:nvPicPr>
          <p:cNvPr id="93" name="Picture 4" descr="MagasinSemencesMobiom-Yanfolila-Juin2012.JPG"/>
          <p:cNvPicPr/>
          <p:nvPr/>
        </p:nvPicPr>
        <p:blipFill>
          <a:blip r:embed="rId2"/>
          <a:stretch/>
        </p:blipFill>
        <p:spPr>
          <a:xfrm>
            <a:off x="6553080" y="3048120"/>
            <a:ext cx="2286000" cy="1714320"/>
          </a:xfrm>
          <a:prstGeom prst="rect">
            <a:avLst/>
          </a:prstGeom>
          <a:ln w="0">
            <a:noFill/>
          </a:ln>
        </p:spPr>
      </p:pic>
      <p:pic>
        <p:nvPicPr>
          <p:cNvPr id="94" name="Picture 6" descr="DistributionSeedstrials-Yorobougoula-June2012.JPG"/>
          <p:cNvPicPr/>
          <p:nvPr/>
        </p:nvPicPr>
        <p:blipFill>
          <a:blip r:embed="rId3"/>
          <a:stretch/>
        </p:blipFill>
        <p:spPr>
          <a:xfrm>
            <a:off x="4952880" y="1295280"/>
            <a:ext cx="2540160" cy="1905120"/>
          </a:xfrm>
          <a:prstGeom prst="rect">
            <a:avLst/>
          </a:prstGeom>
          <a:ln w="0">
            <a:noFill/>
          </a:ln>
        </p:spPr>
      </p:pic>
      <p:pic>
        <p:nvPicPr>
          <p:cNvPr id="95" name="Picture 3" descr="TrouCompostage-Yorobougoula-Juin2012.JPG"/>
          <p:cNvPicPr/>
          <p:nvPr/>
        </p:nvPicPr>
        <p:blipFill>
          <a:blip r:embed="rId4"/>
          <a:stretch/>
        </p:blipFill>
        <p:spPr>
          <a:xfrm>
            <a:off x="5029200" y="4114800"/>
            <a:ext cx="1930320" cy="14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6719132809_d02a581715_b.jpg"/>
          <p:cNvPicPr/>
          <p:nvPr/>
        </p:nvPicPr>
        <p:blipFill>
          <a:blip r:embed="rId1"/>
          <a:stretch/>
        </p:blipFill>
        <p:spPr>
          <a:xfrm>
            <a:off x="8161200" y="76320"/>
            <a:ext cx="906480" cy="105552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6 Quantify biomass productivity (largely in on-going) farmer-managed experiments, quantifying GxE interactions (soil fertility, crop density, intercropping)</a:t>
            </a:r>
            <a:endParaRPr b="0" lang="en-US" sz="28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trials West Africa database on sorghum, millet, maize, cowpea, peanut screened for selected Africa RISING sites in West Africa region (Ghana, Mali) and analogue locations (climate &amp; soil) - with CCAFS</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xE interactions (ensemble) modeling underway for sorghum, millet, maize, peanut as part of the AgMIP initiative (CIWARA project – Climate change Impact on West African agriculture : a Regional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typology characterization underway for 3 communities in Koutiala district, n communities in Bougouni district – with McKn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3A1B-182B-4053-8694-6FE372106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7 Quantify total biomass in selected farms and possibly surrounding areas</a:t>
            </a:r>
            <a:endParaRPr b="0" lang="en-US" sz="28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nership with CRP1.1</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ical ground measurements of ligneous biomass procured from Univ. Edinburgh on Ghana-Burkina-Mali transect for calibration of automatic ligneous biomass estimates from radar satellite (L-band)</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meter resolution ALOS/PALSAR imagery acquired and received for 2006, 2011 covering 4,900 km2 in each of Koutiala, Bougouni districts for testing of automatic ligneous biomass estimates from satellite (ordered for Ghana sites as well)</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View2 imagery ordered for peak biomass (late September) over 4 communities in Koutiala, Bougouni (more over CRP1.1 in Mali, Ghana)</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protocols meeting in Niamey 17-20 September (CRP1.1)</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D0AB-3F24-4B25-BD68-D0D5ECC9FD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0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a:t>
            </a:r>
            <a:endParaRPr b="0" lang="en-US" sz="28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selection of 4 training modules with MOBIOM, Afrique Verte, AMEDD:</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ood, forage, nutrition banks installation and management (including local tree crops)</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cal fruit species grafting</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Tree planting and management best practices for local and exotic species for fuelwood production</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isted natural regeneration (ANR), rotational shea pruning to combat loranthaceae</a:t>
            </a: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7745-17CD-4C1F-ACA7-FD76C3A097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1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aining ongoing:</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 cluster in Bougouni district by MOBIOM (Faragwaran: all module), 6-8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clusters in Koutiala district by AMEDD (Food bank x 2, Misc. Plantations: Kefesso),  9-11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2 clusters in Koutiala district by Afrique Verte (Women’s cooperative, seed cooperative), 12-13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0508-CFE4-4CED-A043-0F7EB4EE4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1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17" name=""/>
          <p:cNvSpPr txBox="1"/>
          <p:nvPr/>
        </p:nvSpPr>
        <p:spPr>
          <a:xfrm>
            <a:off x="457200" y="1600200"/>
            <a:ext cx="4114800" cy="4525920"/>
          </a:xfrm>
          <a:prstGeom prst="rect">
            <a:avLst/>
          </a:prstGeom>
          <a:noFill/>
          <a:ln w="0">
            <a:noFill/>
          </a:ln>
        </p:spPr>
        <p:txBody>
          <a:bodyPr anchor="t">
            <a:normAutofit/>
          </a:bodyPr>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od banks: year-round leafy and fruit production for human consumption &amp; income (water access not mandatory)</a:t>
            </a:r>
            <a:endParaRPr b="0" lang="en-US" sz="2400" spc="-1" strike="noStrike">
              <a:solidFill>
                <a:srgbClr val="000000"/>
              </a:solidFill>
              <a:latin typeface="Arial"/>
            </a:endParaRPr>
          </a:p>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rage banks for animal consumption during dry season &amp; to reduce divagation (protection requi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0472-F26A-4823-8601-A4F91FEDF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20" name="Picture 5" descr="6719132809_d02a581715_b.jpg"/>
          <p:cNvPicPr/>
          <p:nvPr/>
        </p:nvPicPr>
        <p:blipFill>
          <a:blip r:embed="rId1"/>
          <a:stretch/>
        </p:blipFill>
        <p:spPr>
          <a:xfrm>
            <a:off x="8161200" y="76320"/>
            <a:ext cx="906480" cy="1055520"/>
          </a:xfrm>
          <a:prstGeom prst="rect">
            <a:avLst/>
          </a:prstGeom>
          <a:ln w="0">
            <a:noFill/>
          </a:ln>
        </p:spPr>
      </p:pic>
      <p:pic>
        <p:nvPicPr>
          <p:cNvPr id="121" name="Picture 5" descr=""/>
          <p:cNvPicPr/>
          <p:nvPr/>
        </p:nvPicPr>
        <p:blipFill>
          <a:blip r:embed="rId2"/>
          <a:stretch/>
        </p:blipFill>
        <p:spPr>
          <a:xfrm>
            <a:off x="4343400" y="1219320"/>
            <a:ext cx="3200400" cy="2377800"/>
          </a:xfrm>
          <a:prstGeom prst="rect">
            <a:avLst/>
          </a:prstGeom>
          <a:ln w="0">
            <a:noFill/>
          </a:ln>
        </p:spPr>
      </p:pic>
      <p:sp>
        <p:nvSpPr>
          <p:cNvPr id="122" name="AutoShape 26"/>
          <p:cNvSpPr/>
          <p:nvPr/>
        </p:nvSpPr>
        <p:spPr>
          <a:xfrm>
            <a:off x="5410080" y="2362320"/>
            <a:ext cx="3429000" cy="16002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9" descr="DSC00254"/>
          <p:cNvPicPr/>
          <p:nvPr/>
        </p:nvPicPr>
        <p:blipFill>
          <a:blip r:embed="rId4"/>
          <a:stretch/>
        </p:blipFill>
        <p:spPr>
          <a:xfrm>
            <a:off x="4343400" y="4191120"/>
            <a:ext cx="2590920" cy="1981080"/>
          </a:xfrm>
          <a:prstGeom prst="rect">
            <a:avLst/>
          </a:prstGeom>
          <a:ln w="0">
            <a:noFill/>
          </a:ln>
        </p:spPr>
      </p:pic>
      <p:pic>
        <p:nvPicPr>
          <p:cNvPr id="124" name="Picture 8" descr="DSC00256"/>
          <p:cNvPicPr/>
          <p:nvPr/>
        </p:nvPicPr>
        <p:blipFill>
          <a:blip r:embed="rId5"/>
          <a:stretch/>
        </p:blipFill>
        <p:spPr>
          <a:xfrm>
            <a:off x="5943600" y="4419720"/>
            <a:ext cx="2590920" cy="22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26" name=""/>
          <p:cNvSpPr txBox="1"/>
          <p:nvPr/>
        </p:nvSpPr>
        <p:spPr>
          <a:xfrm>
            <a:off x="457200" y="1600200"/>
            <a:ext cx="4114800" cy="4525920"/>
          </a:xfrm>
          <a:prstGeom prst="rect">
            <a:avLst/>
          </a:prstGeom>
          <a:noFill/>
          <a:ln w="0">
            <a:noFill/>
          </a:ln>
        </p:spPr>
        <p:txBody>
          <a:bodyPr anchor="t">
            <a:normAutofit/>
          </a:bodyPr>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isted natural regeneration with locally adapted, farmer-preferred species (need for protection against termites, animals, &amp; watering)</a:t>
            </a:r>
            <a:endParaRPr b="0" lang="en-US" sz="2200" spc="-1" strike="noStrike">
              <a:solidFill>
                <a:srgbClr val="000000"/>
              </a:solidFill>
              <a:latin typeface="Arial"/>
            </a:endParaRPr>
          </a:p>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mall plantations for wood production &amp; reduced conflicts with forestry services (requires availability of land, legal adjustments in forestry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4C39-1C5F-47D2-BECF-D12A6BB90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29" name="Picture 5" descr="6719132809_d02a581715_b.jpg"/>
          <p:cNvPicPr/>
          <p:nvPr/>
        </p:nvPicPr>
        <p:blipFill>
          <a:blip r:embed="rId1"/>
          <a:stretch/>
        </p:blipFill>
        <p:spPr>
          <a:xfrm>
            <a:off x="8161200" y="76320"/>
            <a:ext cx="906480" cy="1055520"/>
          </a:xfrm>
          <a:prstGeom prst="rect">
            <a:avLst/>
          </a:prstGeom>
          <a:ln w="0">
            <a:noFill/>
          </a:ln>
        </p:spPr>
      </p:pic>
      <p:pic>
        <p:nvPicPr>
          <p:cNvPr id="130" name="Picture 3" descr="Niger Jan2004 070"/>
          <p:cNvPicPr/>
          <p:nvPr/>
        </p:nvPicPr>
        <p:blipFill>
          <a:blip r:embed="rId2"/>
          <a:stretch/>
        </p:blipFill>
        <p:spPr>
          <a:xfrm>
            <a:off x="4495680" y="1143000"/>
            <a:ext cx="3886200" cy="2133720"/>
          </a:xfrm>
          <a:prstGeom prst="rect">
            <a:avLst/>
          </a:prstGeom>
          <a:ln w="0">
            <a:noFill/>
          </a:ln>
          <a:effectLst>
            <a:outerShdw dist="107932" dir="2700000" blurRad="0" rotWithShape="0">
              <a:srgbClr val="808080"/>
            </a:outerShdw>
          </a:effectLst>
        </p:spPr>
      </p:pic>
      <p:pic>
        <p:nvPicPr>
          <p:cNvPr id="131" name="Picture 4" descr="le parc agroforestier après Droum à partir d'une dune"/>
          <p:cNvPicPr/>
          <p:nvPr/>
        </p:nvPicPr>
        <p:blipFill>
          <a:blip r:embed="rId3"/>
          <a:stretch/>
        </p:blipFill>
        <p:spPr>
          <a:xfrm>
            <a:off x="6705720" y="2209680"/>
            <a:ext cx="2209680" cy="1724040"/>
          </a:xfrm>
          <a:prstGeom prst="rect">
            <a:avLst/>
          </a:prstGeom>
          <a:ln w="0">
            <a:noFill/>
          </a:ln>
        </p:spPr>
      </p:pic>
      <p:pic>
        <p:nvPicPr>
          <p:cNvPr id="132" name="Picture 7" descr="DSC00197"/>
          <p:cNvPicPr/>
          <p:nvPr/>
        </p:nvPicPr>
        <p:blipFill>
          <a:blip r:embed="rId4"/>
          <a:stretch/>
        </p:blipFill>
        <p:spPr>
          <a:xfrm>
            <a:off x="4572000" y="3894120"/>
            <a:ext cx="2608200" cy="1943280"/>
          </a:xfrm>
          <a:prstGeom prst="rect">
            <a:avLst/>
          </a:prstGeom>
          <a:ln w="0">
            <a:noFill/>
          </a:ln>
        </p:spPr>
      </p:pic>
      <p:pic>
        <p:nvPicPr>
          <p:cNvPr id="133" name="Picture 31" descr="DSC00271"/>
          <p:cNvPicPr/>
          <p:nvPr/>
        </p:nvPicPr>
        <p:blipFill>
          <a:blip r:embed="rId5"/>
          <a:stretch/>
        </p:blipFill>
        <p:spPr>
          <a:xfrm>
            <a:off x="6324480" y="3505320"/>
            <a:ext cx="2235240" cy="1676160"/>
          </a:xfrm>
          <a:prstGeom prst="rect">
            <a:avLst/>
          </a:prstGeom>
          <a:ln w="0">
            <a:noFill/>
          </a:ln>
        </p:spPr>
      </p:pic>
      <p:pic>
        <p:nvPicPr>
          <p:cNvPr id="134" name="Picture 5" descr="JeuneArbreAcajou-Yorobougoula-Juin2012.JPG"/>
          <p:cNvPicPr/>
          <p:nvPr/>
        </p:nvPicPr>
        <p:blipFill>
          <a:blip r:embed="rId6"/>
          <a:stretch/>
        </p:blipFill>
        <p:spPr>
          <a:xfrm>
            <a:off x="6705720" y="4572000"/>
            <a:ext cx="1600200" cy="213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6719132809_d02a581715_b.jpg"/>
          <p:cNvPicPr/>
          <p:nvPr/>
        </p:nvPicPr>
        <p:blipFill>
          <a:blip r:embed="rId1"/>
          <a:stretch/>
        </p:blipFill>
        <p:spPr>
          <a:xfrm>
            <a:off x="8161200" y="76320"/>
            <a:ext cx="906480" cy="105552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ies ongoing – reports pendings:</a:t>
            </a:r>
            <a:endParaRPr b="0" lang="en-US" sz="2800" spc="-1" strike="noStrike">
              <a:solidFill>
                <a:srgbClr val="000000"/>
              </a:solidFill>
              <a:latin typeface="Arial"/>
            </a:endParaRPr>
          </a:p>
        </p:txBody>
      </p:sp>
      <p:sp>
        <p:nvSpPr>
          <p:cNvPr id="137" name=""/>
          <p:cNvSpPr txBox="1"/>
          <p:nvPr/>
        </p:nvSpPr>
        <p:spPr>
          <a:xfrm>
            <a:off x="457200" y="1294920"/>
            <a:ext cx="8229600" cy="4830840"/>
          </a:xfrm>
          <a:prstGeom prst="rect">
            <a:avLst/>
          </a:prstGeom>
          <a:noFill/>
          <a:ln w="0">
            <a:noFill/>
          </a:ln>
        </p:spPr>
        <p:txBody>
          <a:bodyPr anchor="t">
            <a:normAutofit fontScale="93000"/>
          </a:bodyPr>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1.1.10. Participatory appraisal on production systems to document existing vegetable varieties, assess relative share of vegetables […]</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1.1.11. Introduce, evaluate and promote high value vegetables to improve system productivity</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2.1.1. Integrate participatory breeding activities for sorghum and millet with local cattle breeder network</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3.3.1 Initiate establishment of rural resource centers for sustainable intensification, income generation for women, youth, other resource-poor farmers</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4.1.1 Desk review: nutritional status, quantity and quality of foods consumed, macro and micronutrient intakes; nutrient  retention during processing</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4.1.2. Desk review of food safety issues including aflatoxin, water quality, pesticide residues, chemical/ physical contaminants, microbiological pathogens </a:t>
            </a:r>
            <a:endParaRPr b="0" lang="en-US" sz="2400" spc="-1" strike="noStrike">
              <a:solidFill>
                <a:srgbClr val="000000"/>
              </a:solidFill>
              <a:latin typeface="Arial"/>
            </a:endParaRPr>
          </a:p>
          <a:p>
            <a:pPr marL="318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0936-8876-4C09-B278-1194DE9290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6719132809_d02a581715_b.jpg"/>
          <p:cNvPicPr/>
          <p:nvPr/>
        </p:nvPicPr>
        <p:blipFill>
          <a:blip r:embed="rId1"/>
          <a:stretch/>
        </p:blipFill>
        <p:spPr>
          <a:xfrm>
            <a:off x="8161200" y="76320"/>
            <a:ext cx="906480" cy="10555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a:t>
            </a:r>
            <a:endParaRPr b="0" lang="en-US" sz="28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trition activities based on the first 1000 days of life concept (children from conception to 2 years, pregnant &amp; lactating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raining modules prepared based on  the 7 Essential Nutrition Actions (ENA) framework: i/ exclusive breastfeeding, ii/ complementary feeding of children 6 mths-2yrs, iii/ feeding of the sick child, iv/ maternal nutrition during pregnancy and lactation, v/ control of vitamin A deficiency, vi/ control of iron deficiency anemia, vii/ control of iodine deficiency disord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areas: 6 communes in Koutiala; 6 villages per commune (36 villages in al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6DA2-A306-4874-86CC-FAD567BBEA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6719132809_d02a581715_b.jpg"/>
          <p:cNvPicPr/>
          <p:nvPr/>
        </p:nvPicPr>
        <p:blipFill>
          <a:blip r:embed="rId1"/>
          <a:stretch/>
        </p:blipFill>
        <p:spPr>
          <a:xfrm>
            <a:off x="8161200" y="76320"/>
            <a:ext cx="906480" cy="105552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levels of training:</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e level: a total of 30 trainers per commune (5 trainers per village) trained by the ICRISAT/AVRDC/AMEDD team; training sessions conducted at the health centres.</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llage level: 25 pregnant and lactating women trained by the 5 trainers per village who received training at the commune level</a:t>
            </a: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cutting issues of training modules: </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lusive breastfeeding; hygiene; processing methods for improved nutrient retention; dietary diversification; utilization of maternal and child health services; prevention of malaria and culinary demonstrations</a:t>
            </a: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2764-B4F5-4C29-914F-F060A2D4A1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reportables – Sept. 2012</a:t>
            </a:r>
            <a:br>
              <a:rPr sz="2800"/>
            </a:br>
            <a:r>
              <a:rPr b="0" lang="en-US" sz="2800" spc="-1" strike="noStrike">
                <a:solidFill>
                  <a:srgbClr val="000000"/>
                </a:solidFill>
                <a:latin typeface="Calibri"/>
              </a:rPr>
              <a:t>Outcomes, </a:t>
            </a:r>
            <a:r>
              <a:rPr b="0" i="1" lang="en-US" sz="2800" spc="-1" strike="noStrike">
                <a:solidFill>
                  <a:srgbClr val="000000"/>
                </a:solidFill>
                <a:latin typeface="Calibri"/>
              </a:rPr>
              <a:t>outputs (# of activities)</a:t>
            </a:r>
            <a:r>
              <a:rPr b="0" lang="en-US" sz="2800" spc="-1" strike="noStrike">
                <a:solidFill>
                  <a:srgbClr val="000000"/>
                </a:solidFill>
                <a:latin typeface="Calibri"/>
              </a:rPr>
              <a:t> – Mali </a:t>
            </a:r>
            <a:endParaRPr b="0" lang="en-US" sz="2800" spc="-1" strike="noStrike">
              <a:solidFill>
                <a:srgbClr val="000000"/>
              </a:solidFill>
              <a:latin typeface="Arial"/>
            </a:endParaRPr>
          </a:p>
        </p:txBody>
      </p:sp>
      <p:sp>
        <p:nvSpPr>
          <p:cNvPr id="47" name=""/>
          <p:cNvSpPr txBox="1"/>
          <p:nvPr/>
        </p:nvSpPr>
        <p:spPr>
          <a:xfrm>
            <a:off x="457200" y="1600200"/>
            <a:ext cx="8305920" cy="452592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1.</a:t>
            </a:r>
            <a:r>
              <a:rPr b="0" lang="en-US" sz="2400" spc="-1" strike="noStrike">
                <a:solidFill>
                  <a:srgbClr val="000000"/>
                </a:solidFill>
                <a:latin typeface="Calibri"/>
              </a:rPr>
              <a:t> Sustainable increased of whole-farm productivity</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1.1.</a:t>
            </a:r>
            <a:r>
              <a:rPr b="0" i="1" lang="en-US" sz="2400" spc="-1" strike="noStrike">
                <a:solidFill>
                  <a:srgbClr val="000000"/>
                </a:solidFill>
                <a:latin typeface="Calibri"/>
              </a:rPr>
              <a:t> Integrated crop and livestock production systems developed, evaluated, and  effectively delivered to end users (7/10)</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2.</a:t>
            </a:r>
            <a:r>
              <a:rPr b="0" lang="en-US" sz="2400" spc="-1" strike="noStrike">
                <a:solidFill>
                  <a:srgbClr val="000000"/>
                </a:solidFill>
                <a:latin typeface="Calibri"/>
              </a:rPr>
              <a:t> Improved on- and off-farm natural resource management</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2.1.</a:t>
            </a:r>
            <a:r>
              <a:rPr b="0" i="1" lang="en-US" sz="2400" spc="-1" strike="noStrike">
                <a:solidFill>
                  <a:srgbClr val="000000"/>
                </a:solidFill>
                <a:latin typeface="Calibri"/>
              </a:rPr>
              <a:t> Improved nutrient cycling and water use efficiency (0/1)</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3.</a:t>
            </a:r>
            <a:r>
              <a:rPr b="0" lang="en-US" sz="2400" spc="-1" strike="noStrike">
                <a:solidFill>
                  <a:srgbClr val="000000"/>
                </a:solidFill>
                <a:latin typeface="Calibri"/>
              </a:rPr>
              <a:t> Reduced vulnerability of target population (esp. women and children) and farming systems to adverse environmental and economic chang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3.3.</a:t>
            </a:r>
            <a:r>
              <a:rPr b="0" i="1" lang="en-US" sz="2400" spc="-1" strike="noStrike">
                <a:solidFill>
                  <a:srgbClr val="000000"/>
                </a:solidFill>
                <a:latin typeface="Calibri"/>
              </a:rPr>
              <a:t> Input  and output market  access for male and female farmers expanded to increase household income (0/1)</a:t>
            </a:r>
            <a:endParaRPr b="0" lang="en-US" sz="2400" spc="-1" strike="noStrike">
              <a:solidFill>
                <a:srgbClr val="000000"/>
              </a:solidFill>
              <a:latin typeface="Arial"/>
            </a:endParaRPr>
          </a:p>
        </p:txBody>
      </p:sp>
      <p:sp>
        <p:nvSpPr>
          <p:cNvPr id="4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0FCC-8135-430E-8329-605BE22EFF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50" name="Picture 6"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6719132809_d02a581715_b.jpg"/>
          <p:cNvPicPr/>
          <p:nvPr/>
        </p:nvPicPr>
        <p:blipFill>
          <a:blip r:embed="rId1"/>
          <a:stretch/>
        </p:blipFill>
        <p:spPr>
          <a:xfrm>
            <a:off x="8161200" y="76320"/>
            <a:ext cx="906480" cy="1055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fontScale="97000"/>
          </a:bodyPr>
          <a:p>
            <a:pPr lvl="1"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sessions already conducted (July- August 2012)</a:t>
            </a: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timal complementary feeding of children 6 months to 2 years</a:t>
            </a: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nal nutrition during pregnancy and lactat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s on feeding of the sick child are on-going</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s on control of vitamin A deficiency, iron deficiency anemia, and iodine deficiency disorders been planned for end September to mid October</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A7CF-DF09-4589-ACB8-766A9F757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6719132809_d02a581715_b.jpg"/>
          <p:cNvPicPr/>
          <p:nvPr/>
        </p:nvPicPr>
        <p:blipFill>
          <a:blip r:embed="rId1"/>
          <a:stretch/>
        </p:blipFill>
        <p:spPr>
          <a:xfrm>
            <a:off x="8161200" y="76320"/>
            <a:ext cx="906480" cy="105552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4.1 Participatory diet appraisal  to assess, document existing dietary diversity, relative share of vegetables,  nutritional performance of existing dietary options</a:t>
            </a:r>
            <a:endParaRPr b="0" lang="en-US" sz="28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health centers supplied with seeds for improved availability and acces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reals: sorghum, millet, maiz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umes: cowpea, soyabe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s/trees: amaranth, hibiscus (sorrel), moringa, baobab</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ther reports pending</a:t>
            </a:r>
            <a:endParaRPr b="0" lang="en-US" sz="2400" spc="-1" strike="noStrike">
              <a:solidFill>
                <a:srgbClr val="000000"/>
              </a:solidFill>
              <a:latin typeface="Arial"/>
            </a:endParaRPr>
          </a:p>
        </p:txBody>
      </p:sp>
      <p:sp>
        <p:nvSpPr>
          <p:cNvPr id="15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9C4C-526C-4A68-B916-0C20785745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reportables – Sept. 2012</a:t>
            </a:r>
            <a:br>
              <a:rPr sz="2800"/>
            </a:br>
            <a:r>
              <a:rPr b="0" lang="en-US" sz="2800" spc="-1" strike="noStrike">
                <a:solidFill>
                  <a:srgbClr val="000000"/>
                </a:solidFill>
                <a:latin typeface="Calibri"/>
              </a:rPr>
              <a:t>Outcomes, </a:t>
            </a:r>
            <a:r>
              <a:rPr b="0" i="1" lang="en-US" sz="2800" spc="-1" strike="noStrike">
                <a:solidFill>
                  <a:srgbClr val="000000"/>
                </a:solidFill>
                <a:latin typeface="Calibri"/>
              </a:rPr>
              <a:t>outputs (# of activities)</a:t>
            </a:r>
            <a:r>
              <a:rPr b="0" lang="en-US" sz="2800" spc="-1" strike="noStrike">
                <a:solidFill>
                  <a:srgbClr val="000000"/>
                </a:solidFill>
                <a:latin typeface="Calibri"/>
              </a:rPr>
              <a:t> – Mali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4.</a:t>
            </a:r>
            <a:r>
              <a:rPr b="0" lang="en-US" sz="2400" spc="-1" strike="noStrike">
                <a:solidFill>
                  <a:srgbClr val="000000"/>
                </a:solidFill>
                <a:latin typeface="Calibri"/>
              </a:rPr>
              <a:t> Increased nutritional and economic levels of the target population, especially women and childre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1.</a:t>
            </a:r>
            <a:r>
              <a:rPr b="0" i="1" lang="en-US" sz="2400" spc="-1" strike="noStrike">
                <a:solidFill>
                  <a:srgbClr val="000000"/>
                </a:solidFill>
                <a:latin typeface="Calibri"/>
              </a:rPr>
              <a:t> Desk study of key nutritional and food safety issues of the target population (0/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2.</a:t>
            </a:r>
            <a:r>
              <a:rPr b="0" i="1" lang="en-US" sz="2400" spc="-1" strike="noStrike">
                <a:solidFill>
                  <a:srgbClr val="000000"/>
                </a:solidFill>
                <a:latin typeface="Calibri"/>
              </a:rPr>
              <a:t> Capacity building and awareness campaign on nutrition issues for the target population (1/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4.</a:t>
            </a:r>
            <a:r>
              <a:rPr b="0" i="1" lang="en-US" sz="2400" spc="-1" strike="noStrike">
                <a:solidFill>
                  <a:srgbClr val="000000"/>
                </a:solidFill>
                <a:latin typeface="Calibri"/>
              </a:rPr>
              <a:t> Evidence based dietary strategies for target population developed, tested and communicated (1/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Calibri"/>
              </a:rPr>
              <a:t>  </a:t>
            </a:r>
            <a:r>
              <a:rPr b="0" i="1" lang="en-US" sz="3200" spc="-1" strike="noStrike">
                <a:solidFill>
                  <a:srgbClr val="000000"/>
                </a:solidFill>
                <a:latin typeface="Calibri"/>
              </a:rPr>
              <a:t>Reporting on 9 of 16 activ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A5ED-FB40-41E7-B048-7BF3758AE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5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a:t>
            </a:r>
            <a:endParaRPr b="0" lang="en-US" sz="28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em components: </a:t>
            </a:r>
            <a:r>
              <a:rPr b="0" lang="en-US" sz="2400" spc="-1" strike="noStrike">
                <a:solidFill>
                  <a:srgbClr val="000000"/>
                </a:solidFill>
                <a:latin typeface="Calibri"/>
              </a:rPr>
              <a:t>crop production , livestock production, agro-forestry </a:t>
            </a:r>
            <a:endParaRPr b="0" lang="en-US" sz="2400" spc="-1" strike="noStrike">
              <a:solidFill>
                <a:srgbClr val="000000"/>
              </a:solidFill>
              <a:latin typeface="Arial"/>
            </a:endParaRPr>
          </a:p>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pproach: </a:t>
            </a:r>
            <a:r>
              <a:rPr b="0" lang="en-US" sz="2400" spc="-1" strike="noStrike">
                <a:solidFill>
                  <a:srgbClr val="000000"/>
                </a:solidFill>
                <a:latin typeface="Calibri"/>
              </a:rPr>
              <a:t>i/ participatory rural appraisal at community level, ii/ household survey, iii/ analysis of land use plans and local conventions (a1.1.2)</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1398-5516-46F7-8FA5-54DD5AD429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6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rticipatory Rural Appraisal</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Diagnosis of baseline situation with respect to biophysical, socio-economic and institutional profiles of the study sites, and the production systems (crop, livestock &amp; agroforestry)</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resource maps of the village; inventory of natural resources; production systems; actors and institutional analysis; livelihood analysis; market acces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AA4E-0B16-4052-9B16-AFB52A7884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6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ousehold survey</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characterization of household assets, production systems, access to agricultural services and market, to identify constraints and opportunities to crop-livestock intensification</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general information on the households; household assets; labour allocation; crop production; livestock production; agroforestry; access to agricultural services and market; perception on climate change</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25BB-30C1-48E4-BC9B-139A866C15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7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2 Validation  of local land use plans and supporting key interventions planned collectively</a:t>
            </a:r>
            <a:endParaRPr b="0" lang="en-US" sz="28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alysis of land use and local convention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identify promising land management options in the project sites for sustainable intensification (overall); assess the existing land use plans (specific); review the existing local conventions (specific); propose strategies and policy options for strengthening local conventions (specific)</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review existing land use plans and local conventions in study sites; organize community workshop on local conventions; conduct interview with key stakeholder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83B7-EA9F-481C-86BF-61A251960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7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6719132809_d02a581715_b.jpg"/>
          <p:cNvPicPr/>
          <p:nvPr/>
        </p:nvPicPr>
        <p:blipFill>
          <a:blip r:embed="rId1"/>
          <a:stretch/>
        </p:blipFill>
        <p:spPr>
          <a:xfrm>
            <a:off x="8161200" y="76320"/>
            <a:ext cx="906480" cy="105552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3 Information campaign on Integrated Striga and soil fertility management, using video and other visual aids</a:t>
            </a:r>
            <a:endParaRPr b="0" lang="en-US" sz="2800" spc="-1" strike="noStrike">
              <a:solidFill>
                <a:srgbClr val="000000"/>
              </a:solidFill>
              <a:latin typeface="Arial"/>
            </a:endParaRPr>
          </a:p>
        </p:txBody>
      </p:sp>
      <p:sp>
        <p:nvSpPr>
          <p:cNvPr id="78" name=""/>
          <p:cNvSpPr txBox="1"/>
          <p:nvPr/>
        </p:nvSpPr>
        <p:spPr>
          <a:xfrm>
            <a:off x="456840" y="1600200"/>
            <a:ext cx="61722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Fighting Striga” DVDs multiplied and distributed to project partners in intervention sites in Mali (MOBIOM, AMEDD, AMASSA-Afrique Verte)</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level distribution of DVDs to cooperatives, farmer groups, extension agents, rural radios etc. within and outside intervention sites by MOBIOM (120), AMEDD (50) and AMASSA (130)</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agents, technicians, interns and lead farmers trained in the use of Fighting Striga DVDs for farmer training in Koutiala (42 persons), and Yanfolila (38 persons) districts </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ghting Striga videos shown in 18 villages in Koutiala district (AMEDD), at least 3 villages by cooperatives collaborating with AMASSA in Sikasso region and at least 2 villages in Bougouni and Yanfolila district (MOBIOM, PROGEBE)</a:t>
            </a:r>
            <a:endParaRPr b="0" lang="en-US" sz="2200" spc="-1" strike="noStrike">
              <a:solidFill>
                <a:srgbClr val="000000"/>
              </a:solidFill>
              <a:latin typeface="Arial"/>
            </a:endParaRPr>
          </a:p>
          <a:p>
            <a:pPr marL="332640" indent="-3326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301F-C4AE-4629-B5B4-0ADB3256EB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81" name="Picture 4" descr="Formation-Video-Compostage-Juin2012.JPG"/>
          <p:cNvPicPr/>
          <p:nvPr/>
        </p:nvPicPr>
        <p:blipFill>
          <a:blip r:embed="rId2"/>
          <a:stretch/>
        </p:blipFill>
        <p:spPr>
          <a:xfrm>
            <a:off x="6629400" y="3581280"/>
            <a:ext cx="2286000" cy="1714680"/>
          </a:xfrm>
          <a:prstGeom prst="rect">
            <a:avLst/>
          </a:prstGeom>
          <a:ln w="0">
            <a:noFill/>
          </a:ln>
        </p:spPr>
      </p:pic>
      <p:pic>
        <p:nvPicPr>
          <p:cNvPr id="82" name="Picture 6" descr="PortableDVDPlayer-farmer-June2012.JPG"/>
          <p:cNvPicPr/>
          <p:nvPr/>
        </p:nvPicPr>
        <p:blipFill>
          <a:blip r:embed="rId3"/>
          <a:stretch/>
        </p:blipFill>
        <p:spPr>
          <a:xfrm>
            <a:off x="6400800" y="2057400"/>
            <a:ext cx="223524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5 Diversify seed enterprise options for seed or tree nursery cooperatives  and their unions, and tree nurseries </a:t>
            </a:r>
            <a:endParaRPr b="0" lang="en-US" sz="28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site project planning workshops performed with project partners and cooperati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workshops with partners, field agents and cooperative representatives for the choice of crops and agronomic practices to be tested variety trials for cereals, legumes, vegetables, fodder crops</a:t>
            </a: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agents, technicians, interns and lead farmers trained in implementation of arable and vegetable crop trials and on seed production of sorghum, pearl millet and cowpea in Koutiala (&gt;30 persons), Bougouni (5 persons) and Yanfolila (38 persons) districts</a:t>
            </a:r>
            <a:endParaRPr b="0" lang="en-US" sz="2400" spc="-1" strike="noStrike">
              <a:solidFill>
                <a:srgbClr val="000000"/>
              </a:solidFill>
              <a:latin typeface="Arial"/>
            </a:endParaRPr>
          </a:p>
        </p:txBody>
      </p:sp>
      <p:sp>
        <p:nvSpPr>
          <p:cNvPr id="85"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F055-6A81-489B-9F66-91AB841E32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87"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3T00:49:24Z</dcterms:created>
  <dc:creator>Thomas Van Mourik</dc:creator>
  <dc:description/>
  <dc:language>en-US</dc:language>
  <cp:lastModifiedBy>Pierre C. Sibiry Traore</cp:lastModifiedBy>
  <dcterms:modified xsi:type="dcterms:W3CDTF">2012-09-06T05:39:46Z</dcterms:modified>
  <cp:revision>76</cp:revision>
  <dc:subject/>
  <dc:title>Activity 1.1.3 Information campaign on Integrated Striga and Soil fertility Management, using video and other visual aids </dc:title>
</cp:coreProperties>
</file>